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40A-78FC-4EA0-89E9-8DF41428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22D4-F7DB-4316-B024-6F740F8C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6F98-8C13-4E48-85E7-0B371ACC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571F-0BF9-4F92-92FD-60375DDC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625B-8106-4A36-B463-30CC9B27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09F2-6B67-4828-9390-805F6BC7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7AE-9DDB-45AE-8F0A-35A10CB7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F1F7-5934-4394-88E7-0D9342AC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6F63-2762-4104-9C4D-23739613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C312-7DB4-47D2-B649-2519AA6E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D87F-E3C5-40DC-88B9-A16584C5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2D9E-449E-4722-820D-EB23C8A1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B15F-90CF-445C-B4E6-A97BCAA8995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إعراض عن فهم دين الله وعدم سماع الح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خول الن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تكون من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 وحد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الهداية من الله وحد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4005360"/>
            <a:ext cx="866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 قوله تعالى :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على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تعالى علم من خلقه ما هم عاملون قبل خلق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5013360"/>
            <a:ext cx="866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ان الله تعالى علم من خلقه ما هم عاملون قبل خلقه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ال </a:t>
            </a:r>
            <a:r>
              <a:rPr b="1" lang="ar-SA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إن الله قدر مقادير الخلق قبل أن يخلق السموات والأرض بخمسين ألف سنة وكان عرشه على الماء)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"/>
          <p:cNvPicPr/>
          <p:nvPr/>
        </p:nvPicPr>
        <p:blipFill>
          <a:blip r:embed="rId2"/>
          <a:stretch/>
        </p:blipFill>
        <p:spPr>
          <a:xfrm>
            <a:off x="2243160" y="3209760"/>
            <a:ext cx="6576840" cy="533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"/>
          <p:cNvPicPr/>
          <p:nvPr/>
        </p:nvPicPr>
        <p:blipFill>
          <a:blip r:embed="rId3"/>
          <a:stretch/>
        </p:blipFill>
        <p:spPr>
          <a:xfrm>
            <a:off x="2668680" y="3944880"/>
            <a:ext cx="4787640" cy="47160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50920" y="587700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خطاب في قوله تعالى :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رسول </a:t>
            </a:r>
            <a:r>
              <a:rPr b="1" lang="ar-SA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2195640" y="5835600"/>
            <a:ext cx="45370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1484280"/>
            <a:ext cx="8665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عنى في قوله تعالى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هذا المثل مثل القوم الذين كانوا ضالين قبل أن تأتيهم بالهدى والرسالة ثم جئتهم بذلك فبقوا على ضلالتهم ولم ينتفعوا بذلك فمثلهم كمثل الكل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28600" y="2924280"/>
            <a:ext cx="8666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وء العاق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ذر من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28600" y="3645000"/>
            <a:ext cx="86662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ثبات يطلب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2"/>
          <a:stretch/>
        </p:blipFill>
        <p:spPr>
          <a:xfrm>
            <a:off x="2484360" y="1401840"/>
            <a:ext cx="45356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250920" y="2205000"/>
            <a:ext cx="8597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طبيق ذلك على نفسه أول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أهله ثاني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أقاربه الأقرب فالأقر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باقي المسلم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925560" y="1050840"/>
            <a:ext cx="792324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353440" cy="3776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89000" y="3213000"/>
            <a:ext cx="589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 ((من يرد الله به خيراً يفقه في الدين 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1403280" y="2349360"/>
            <a:ext cx="5184720" cy="57492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250920" y="4037040"/>
            <a:ext cx="58957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 ((لَا تَزُولُ قَدَمَا عَبْدٍ يَوْمَ الْقِيَامَةِ حَتَّى يُسْأَلَ عَنْ أَرْبَعٍ : ... وَعَنْ عِلْمِهِ ، مَا صَنَعَ فِيهِ ؟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35344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223920" y="4941720"/>
            <a:ext cx="86914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بل نفي الاستفادة منها في متابعة الح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1246320" y="1052640"/>
            <a:ext cx="7643520" cy="59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4"/>
          <a:stretch/>
        </p:blipFill>
        <p:spPr>
          <a:xfrm>
            <a:off x="509760" y="3141720"/>
            <a:ext cx="8407080" cy="165564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250920" y="191628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تشبيه بالكلب أبلغ من غير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3"/>
          <a:stretch/>
        </p:blipFill>
        <p:spPr>
          <a:xfrm>
            <a:off x="250920" y="2254320"/>
            <a:ext cx="86421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442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76120" y="836640"/>
            <a:ext cx="8591760" cy="568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539640" y="4172040"/>
            <a:ext cx="8210520" cy="105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56560" cy="281916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203640" y="4332240"/>
            <a:ext cx="41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ذم ترك العمل بما تعلم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82440" y="895320"/>
            <a:ext cx="8977320" cy="584676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3357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غرته الدنيا عن الاخر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20400" cy="95724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250920" y="386064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ل إلى شهوات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4365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خلقنا ل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494028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سمعون العظات سماع تدب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589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رون الآيات رؤي تدب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23736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بل هم أضي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20400" cy="957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324000" y="971640"/>
            <a:ext cx="3456000" cy="5337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5508720" y="971640"/>
            <a:ext cx="339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بالعلم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غب بها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60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ائدة العمل بالع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رفعة من الله لصاحبه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صمة من الشيط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0680" y="2852640"/>
            <a:ext cx="8666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عراض عن دين الله بعد العلم 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خط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00160" y="3500280"/>
            <a:ext cx="866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خطورة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إعراض عن دين الله بعد العلم به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79736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غواية وتسلط الشيطا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تباع الهوى والميل إلى الشهوات المحر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48496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تمسك بالد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رفعة في الدنيا والفلاح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150920" y="4000680"/>
            <a:ext cx="7669080" cy="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